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E67-3F47-45CC-8214-254847E4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C91-9C76-4803-95EB-ADB5C077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5BB-80BC-4E84-9C84-C5380DE9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A98-1D9D-4E70-A0BA-73E2D36E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EA5-D6D5-4D91-BEE0-B822C5CE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E01-BEBE-44EF-83C4-0E54F22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695-3678-43F9-9D50-526CB88D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795-A6A0-4BA5-8E60-A651C5BE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251-2CCB-4E80-B475-9118CD2E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361-3DC5-4976-83DB-CCB4C0A3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CB4-1EB4-4697-AB83-8A939E9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48A-BC77-4EBC-8B9A-678F808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CA72-B154-486B-B5BE-66D46D20E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452901UfUnyYzNnC_ph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0120" y="129528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بارك مبارك مبارك الآتي باسم الر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4551qvfwqABpH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4572000"/>
            <a:ext cx="5257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ُ منادٍ في الب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دّوا طريقَ الرب واجعلوا سبُله قويم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a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5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6483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ل وادٍ يُردَم وكل جبلٍ وتلٍّ يُخف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طرقُ المنعرِجةَ تُقَوَّم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وعرةُ تُسَهّ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2711164FoZXzA_ph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1295280"/>
            <a:ext cx="26668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وبو وآمنوا بالبش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لا أثمروا ثمراً جديرا  بالتوب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37181zlJvZVnxXi_ph" descr=""/>
          <p:cNvPicPr/>
          <p:nvPr/>
        </p:nvPicPr>
        <p:blipFill>
          <a:blip r:embed="rId1"/>
          <a:stretch/>
        </p:blipFill>
        <p:spPr>
          <a:xfrm>
            <a:off x="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304920"/>
            <a:ext cx="274320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كلُّ بشر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يرى الخلاص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الآتي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لَدُن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654765BKdtyzpTbD_ph" descr=""/>
          <p:cNvPicPr/>
          <p:nvPr/>
        </p:nvPicPr>
        <p:blipFill>
          <a:blip r:embed="rId1"/>
          <a:stretch/>
        </p:blipFill>
        <p:spPr>
          <a:xfrm>
            <a:off x="-63360" y="0"/>
            <a:ext cx="6168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97180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من كان لديه ثوبان فليقسمه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بينه وبين من لا ثوبَ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من كان لديه طعام فليعمل كذ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59:45Z</dcterms:created>
  <dc:creator>SUZANNE.MD</dc:creator>
  <dc:description/>
  <dc:language>en-US</dc:language>
  <cp:lastModifiedBy>SUZANNE.MD</cp:lastModifiedBy>
  <dcterms:modified xsi:type="dcterms:W3CDTF">2002-12-09T06:37:33Z</dcterms:modified>
  <cp:revision>3</cp:revision>
  <dc:subject/>
  <dc:title>PowerPoint Presentation</dc:title>
</cp:coreProperties>
</file>